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D54-782A-47B2-9F29-7C0AED17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AD47-8F2B-4BA4-9C67-9F417E92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1CB-370E-4CEE-89ED-F48D27CC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A2B-CB3A-4CDB-8A50-9A5922DF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9676-72CE-4237-8911-80253E0E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2E36-F11E-4D60-93C9-C5F39CDE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E1C0-0688-4C55-BEC8-BDB825E0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1AB1-1C8B-46DD-AD30-3AA30A15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5808-C55E-4D48-84B1-0AD0F8CD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A9A0-F81A-4612-9FF5-5E08FCB3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4E65-5321-4914-B7D9-B438D0F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4A2-BE0D-434D-B2E6-CB9F5C56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13B4-951B-4344-856D-26CA4EDA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6A67-942B-43DF-B984-B0F42C3F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37CF-43BB-4C8C-8A95-0BE0CCC5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7DF5-1D5F-48DD-91E7-EEF2FC7B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80A2-BE11-464A-89CD-E2E67EEB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782-75D0-4176-9E93-BC41C5B9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A4F-D2AF-4C35-B45D-CCC6B36F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F90-5688-4A41-80E6-B950EF75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E81-D9D8-4A21-9467-688F5562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94A-CE22-4EDB-8FB0-3DCB331B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10F-7E7D-4FA1-8E3F-8B984D7C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533-9867-474B-B001-5D58C1B0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87CE-C5C6-44D5-AFC2-16AE4E81E3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3CA6-4A1F-4D20-957C-AF142962EAF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79153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b7"/>
                </a:solidFill>
                <a:latin typeface="Arial Black"/>
              </a:rPr>
              <a:t>ЛИЧНАЯ ГИГИЕНА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41428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АОУ «Лицей № 62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в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34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 должна бы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зрач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иметь запа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ть освежающий вк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ее благоприятная температура воды для питья – 7-12 граду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жилищ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1050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ище должно бы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статочно просторным и сух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рошо освещенным солнечным све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ст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лжно проветрив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i"/>
          <p:cNvPicPr/>
          <p:nvPr/>
        </p:nvPicPr>
        <p:blipFill>
          <a:blip r:embed="rId1"/>
          <a:stretch/>
        </p:blipFill>
        <p:spPr>
          <a:xfrm>
            <a:off x="4500720" y="1700280"/>
            <a:ext cx="424800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осле таких советов, думаю что вы всегда будете здоровыми, чистыми и опрятными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Понятие гигие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324000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гиена в переводе с греческого – целебный, приносящий здоров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2177916_f520"/>
          <p:cNvPicPr/>
          <p:nvPr/>
        </p:nvPicPr>
        <p:blipFill>
          <a:blip r:embed="rId1"/>
          <a:stretch/>
        </p:blipFill>
        <p:spPr>
          <a:xfrm>
            <a:off x="4356000" y="1557360"/>
            <a:ext cx="4608720" cy="51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%d0%93%d0%b8%d0%b3%d0%b8%d0%b5%d0%bd%d0%b0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кож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поддержания чистоты кожи ежедневно следует принимать душ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ытье - основной вид ухода за кожей, при котором с ее поверхности удаляются пыль, микробы, пот, различные загряз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1" descr="i"/>
          <p:cNvPicPr/>
          <p:nvPr/>
        </p:nvPicPr>
        <p:blipFill>
          <a:blip r:embed="rId1"/>
          <a:stretch/>
        </p:blipFill>
        <p:spPr>
          <a:xfrm>
            <a:off x="5192640" y="2398680"/>
            <a:ext cx="3640320" cy="267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льза ба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11" descr="parnaya"/>
          <p:cNvPicPr/>
          <p:nvPr/>
        </p:nvPicPr>
        <p:blipFill>
          <a:blip r:embed="rId1"/>
          <a:stretch/>
        </p:blipFill>
        <p:spPr>
          <a:xfrm>
            <a:off x="179280" y="1557360"/>
            <a:ext cx="4537080" cy="475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x_d3ab18d4"/>
          <p:cNvPicPr/>
          <p:nvPr/>
        </p:nvPicPr>
        <p:blipFill>
          <a:blip r:embed="rId2"/>
          <a:stretch/>
        </p:blipFill>
        <p:spPr>
          <a:xfrm>
            <a:off x="4932360" y="1484280"/>
            <a:ext cx="396072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i_113"/>
          <p:cNvPicPr/>
          <p:nvPr/>
        </p:nvPicPr>
        <p:blipFill>
          <a:blip r:embed="rId3"/>
          <a:stretch/>
        </p:blipFill>
        <p:spPr>
          <a:xfrm>
            <a:off x="5219640" y="407664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е забудьте и о зуб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15" descr="0_705d6_a7bd8d8f_orig"/>
          <p:cNvPicPr/>
          <p:nvPr/>
        </p:nvPicPr>
        <p:blipFill>
          <a:blip r:embed="rId1"/>
          <a:stretch/>
        </p:blipFill>
        <p:spPr>
          <a:xfrm>
            <a:off x="971640" y="1413000"/>
            <a:ext cx="7416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одеж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417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я одежды – защита организма от неблагоприятных внешних условий и воз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на соответствовать времени года, характеру работы, не затруднять движения и дых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9" descr="Рисунок1"/>
          <p:cNvPicPr/>
          <p:nvPr/>
        </p:nvPicPr>
        <p:blipFill>
          <a:blip r:embed="rId1"/>
          <a:stretch/>
        </p:blipFill>
        <p:spPr>
          <a:xfrm>
            <a:off x="4643280" y="1268280"/>
            <a:ext cx="4032360" cy="254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post-1291457207"/>
          <p:cNvPicPr/>
          <p:nvPr/>
        </p:nvPicPr>
        <p:blipFill>
          <a:blip r:embed="rId2"/>
          <a:stretch/>
        </p:blipFill>
        <p:spPr>
          <a:xfrm>
            <a:off x="5148360" y="3933720"/>
            <a:ext cx="324000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п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авильное хранение продуктов приводит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х порче, 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отребление таких продуктов может вызвать пищевые отравления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екционные заболе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кружающей нас среде находится множество микроорганизмов, которые пр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лагоприятных условиях быстро размножаются. Некоторые 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х способны вырабатывать сильные яды (токсины).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енным микроорганизмам относятся плесневые грибы, дрожжи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те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Рацион должен быт разнообразны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Рисунок 8" descr="{2C4AFA75-0736-47BB-A59F-92FDC51620EC}"/>
          <p:cNvPicPr/>
          <p:nvPr/>
        </p:nvPicPr>
        <p:blipFill>
          <a:blip r:embed="rId1"/>
          <a:stretch/>
        </p:blipFill>
        <p:spPr>
          <a:xfrm>
            <a:off x="1116000" y="1844640"/>
            <a:ext cx="7056360" cy="489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8:53:30Z</dcterms:created>
  <dc:creator>user</dc:creator>
  <dc:description/>
  <dc:language>en-US</dc:language>
  <cp:lastModifiedBy>Учитель</cp:lastModifiedBy>
  <dcterms:modified xsi:type="dcterms:W3CDTF">2013-05-06T16:48:15Z</dcterms:modified>
  <cp:revision>4</cp:revision>
  <dc:subject/>
  <dc:title>ЛИЧНАЯ ГИГИЕНА</dc:title>
</cp:coreProperties>
</file>